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F187-1237-4A6E-A2AC-AA6F4888A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83A1-0DE4-4E64-932A-41C7A567F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5C546-A0F0-4474-80E1-ABB121FD3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EDBA-FC66-40F4-91BD-62D1E5F7A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6553-48FE-48F2-97B1-47DE78F45E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2E93-4268-4502-995D-92BBA879B7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444C-215C-4B1D-BDE9-1B67E78ADB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D4ABD-6CB9-4AD2-849E-77640412A5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0189-3927-4414-9E36-FACA6ED2A4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1D95-D219-43BB-A0D1-5945D34651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C098-86A2-4BFC-9EC8-1E9A1F416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59FC-257F-4A24-85EB-A5D5F9261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8C91-27AF-408A-800D-21648647B0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2411-7CDC-4BE1-A1A9-F830031632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9876E-2583-4BB3-BD3B-0D44DFB3EF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090B-FD7A-46BF-A6C4-CEA73A41B5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70D5-1164-4DFD-809E-935BDBA27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FA67D-8120-439F-B60B-404AED05B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8EB1-CC18-4A05-A82C-0E5754873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29E8-1AA0-4A56-9506-1267C5C3E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7030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15F4-82E9-4A05-B13D-3E510BFC2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CDE1-8B92-4484-AD44-334237FAA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48BA-16D9-4C6C-B78C-01CC2A1BC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8DA4-C6EE-4206-A6A7-526BA00E0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3ecf3"/>
                </a:solidFill>
                <a:latin typeface="Lucida Grande"/>
              </a:rPr>
              <a:t>Click to edit the title text format</a:t>
            </a:r>
            <a:endParaRPr b="1" lang="en-US" sz="56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32274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24660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49356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74052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A60A-2A88-4BAE-AC99-9451FF84C9CE}" type="slidenum">
              <a: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-2476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149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424160" indent="-20988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72F0-EF6C-447F-976B-632816197F8B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1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3ecf3"/>
                </a:solidFill>
                <a:latin typeface="Lucida Grande"/>
              </a:rPr>
              <a:t>Gerunds &amp; Infinitives</a:t>
            </a:r>
            <a:endParaRPr b="1" lang="en-US" sz="56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32274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Verb – ing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o + base verb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2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444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What similarities and differences can you see in these sentences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a) 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need to chang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batteries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b) The batteries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need chang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c) Do 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need to clean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my room?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d) Does my room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need clean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Need + to + base verb = it is necessary to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Need + verb-ing = needs to be done (passive)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59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What similarities and differences can you see in these sentences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Everybody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helped (to) clean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up after the party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can’t help clean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up all the time. I think I’m too fussy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My best friend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helped me (to) think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of a solution to the problem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My mother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can’t help think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bout us. She calls us every night asking how well we are coping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3" name=""/>
          <p:cNvSpPr/>
          <p:nvPr/>
        </p:nvSpPr>
        <p:spPr>
          <a:xfrm>
            <a:off x="1924560" y="3200400"/>
            <a:ext cx="5275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(I can’t stop myself from doing it.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824040" y="5905440"/>
            <a:ext cx="5783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(She can’t stop herself from doing it.)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68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To summarise…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verbs that can be followed by either a gerund or an infinitive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with a difference in mean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re: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a) remember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b) forge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c) regre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d) go on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e) try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f) need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g) help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88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Let’s recap…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marL="223200" indent="-223200">
              <a:lnSpc>
                <a:spcPct val="9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ome verbs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must be followed by a gerund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r example admit, consider, postpone etc…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-223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ome verbs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must be followed by an infinit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r example agree, decide, hope etc…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-223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ome verbs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can be followed by either a gerund or an infinitive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with </a:t>
            </a:r>
            <a:r>
              <a:rPr b="0" lang="en-US" sz="2600" spc="-1" strike="noStrike">
                <a:solidFill>
                  <a:srgbClr val="089ca2"/>
                </a:solidFill>
                <a:latin typeface="Lucida Grande"/>
              </a:rPr>
              <a:t>no difference in mean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r example: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a) I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like watch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movies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b) I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like to watch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movies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other examples are begin, start, intend, continue,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2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bother, etc…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95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But…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ome verbs can be followed by either a gerund or an infinitive </a:t>
            </a:r>
            <a:r>
              <a:rPr b="0" lang="en-US" sz="2600" spc="-1" strike="noStrike">
                <a:solidFill>
                  <a:srgbClr val="6600cc"/>
                </a:solidFill>
                <a:latin typeface="Lucida Grande"/>
              </a:rPr>
              <a:t>with a difference in mean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02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Let’s study these sentences. How is the meaning different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’m absolutely sure I locked the door. I clearly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member lock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membered to lock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door when I left, but I forgot to shut the window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"/>
          <p:cNvSpPr/>
          <p:nvPr/>
        </p:nvSpPr>
        <p:spPr>
          <a:xfrm>
            <a:off x="943200" y="2819520"/>
            <a:ext cx="6098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locked it, and now I remember this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"/>
          <p:cNvSpPr/>
          <p:nvPr/>
        </p:nvSpPr>
        <p:spPr>
          <a:xfrm>
            <a:off x="941400" y="4191120"/>
            <a:ext cx="6851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remembered that I had to lock the door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and so I locked it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11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Some more sentences to study…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He could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member driv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long the road just before the accident happened, but he couldn’t remember the accident itself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Please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member to driv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me to the airport tomorrow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"/>
          <p:cNvSpPr/>
          <p:nvPr/>
        </p:nvSpPr>
        <p:spPr>
          <a:xfrm>
            <a:off x="1003320" y="3200400"/>
            <a:ext cx="71942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drove and I could remember that I drove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1057680" y="4191120"/>
            <a:ext cx="6526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Don’t forget to drive me to the airport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20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So, what can we conclude?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Remember + verb-ing = You remember doing something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you have done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Remember + to + base verb = You remember to do something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you do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same rules apply with ‘</a:t>
            </a:r>
            <a:r>
              <a:rPr b="1" lang="en-US" sz="2600" spc="-1" strike="noStrike">
                <a:solidFill>
                  <a:srgbClr val="ff6600"/>
                </a:solidFill>
                <a:latin typeface="Lucida Grande"/>
              </a:rPr>
              <a:t>forget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’ except that </a:t>
            </a:r>
            <a:r>
              <a:rPr b="0" lang="en-US" sz="2600" spc="-1" strike="noStrike">
                <a:solidFill>
                  <a:srgbClr val="ff6600"/>
                </a:solidFill>
                <a:latin typeface="Lucida Grande"/>
              </a:rPr>
              <a:t>forget + verb-ing usually occurs in 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Lucida Grande"/>
              </a:rPr>
              <a:t>a negative sentence</a:t>
            </a:r>
            <a:r>
              <a:rPr b="0" lang="en-US" sz="2600" spc="-1" strike="noStrike">
                <a:solidFill>
                  <a:srgbClr val="ff6600"/>
                </a:solidFill>
                <a:latin typeface="Lucida Grande"/>
              </a:rPr>
              <a:t> or in </a:t>
            </a:r>
            <a:r>
              <a:rPr b="0" lang="en-US" sz="2600" spc="-1" strike="noStrike" u="sng">
                <a:solidFill>
                  <a:srgbClr val="ff6600"/>
                </a:solidFill>
                <a:uFillTx/>
                <a:latin typeface="Lucida Grande"/>
              </a:rPr>
              <a:t>a question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for example: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a) I’ll nev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forget see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the Alps for the first time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(b) Can you eve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Lucida Grande"/>
              </a:rPr>
              <a:t>forget say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‘I love you’?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27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What about these sentences? How are they different in meaning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30040" indent="-230040">
              <a:lnSpc>
                <a:spcPct val="9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gret say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what I said. I shouldn’t have said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We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regret to inform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you that we are unable to offer you the job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Regret + verb-ing = I did something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before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 and now I  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am sorry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Regret + to + base verb = I have to say / tell / inform    some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bad news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</a:rPr>
              <a:t>and because of this I am sorry I have to do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34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Lucida Grande"/>
              </a:rPr>
              <a:t>Study these sentences. How are they different in meaning?</a:t>
            </a:r>
            <a:endParaRPr b="0" lang="en-US" sz="45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minister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went on talking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 for two hours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fter discussing the economy, the minister then </a:t>
            </a:r>
            <a:r>
              <a:rPr b="0" lang="en-US" sz="2600" spc="-1" strike="noStrike">
                <a:solidFill>
                  <a:srgbClr val="ff0000"/>
                </a:solidFill>
                <a:latin typeface="Lucida Grande"/>
              </a:rPr>
              <a:t>went on to talk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about foreign policy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"/>
          <p:cNvSpPr/>
          <p:nvPr/>
        </p:nvSpPr>
        <p:spPr>
          <a:xfrm>
            <a:off x="1055160" y="2362320"/>
            <a:ext cx="7655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The minister continued doing the same thing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3733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The minister continued the discussion, but talked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about something new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143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ompare these sentences.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</a:t>
            </a:r>
            <a:r>
              <a:rPr b="0" lang="en-US" sz="2600" spc="-1" strike="noStrike">
                <a:solidFill>
                  <a:srgbClr val="ff6600"/>
                </a:solidFill>
                <a:latin typeface="Lucida Grande"/>
              </a:rPr>
              <a:t>tried to mov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table, but it was too heavy. In other words, I couldn’t move it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I didn’t like the way the furniture was arranged, so I </a:t>
            </a:r>
            <a:r>
              <a:rPr b="0" lang="en-US" sz="2600" spc="-1" strike="noStrike">
                <a:solidFill>
                  <a:srgbClr val="ff6600"/>
                </a:solidFill>
                <a:latin typeface="Lucida Grande"/>
              </a:rPr>
              <a:t>tried moving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e table to the other side of the room. But it still didn’t look right, so I moved it back again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996120" y="2819520"/>
            <a:ext cx="60922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made </a:t>
            </a:r>
            <a:r>
              <a:rPr b="1" lang="en-US" sz="26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an effort 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to move the table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"/>
          <p:cNvSpPr/>
          <p:nvPr/>
        </p:nvSpPr>
        <p:spPr>
          <a:xfrm>
            <a:off x="1045080" y="4572000"/>
            <a:ext cx="78904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Wingdings"/>
                <a:ea typeface="Wingdings"/>
              </a:rPr>
              <a:t>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I moved the furniture as </a:t>
            </a:r>
            <a:r>
              <a:rPr b="1" lang="en-US" sz="26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an experiment / test</a:t>
            </a:r>
            <a:r>
              <a:rPr b="0" lang="en-US" sz="2600" spc="-1" strike="noStrike">
                <a:solidFill>
                  <a:srgbClr val="0070c0"/>
                </a:solidFill>
                <a:latin typeface="Lucida Grande"/>
                <a:ea typeface="Lucida Grande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0461</dc:creator>
  <dc:description/>
  <dc:language>en-US</dc:language>
  <cp:lastModifiedBy/>
  <cp:revision>0</cp:revision>
  <dc:subject/>
  <dc:title>Gerunds &amp; Infinitives</dc:title>
</cp:coreProperties>
</file>